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F13-5A2C-428A-9530-60350BD2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1F7-7AE0-4AB2-8096-2653D198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18C-422A-4A18-8FFD-E842C591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E56-DBA5-4BAA-A569-825A7068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DCD-8EA9-4C0B-92CF-7C849559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6D28-FB86-43F8-8388-C32E0E35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50D-7FB1-4119-9DBC-BD5B0E55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13D-5A3A-4397-A91E-E41D494A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834-74DC-4592-94ED-C9851D3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ABC-A37A-4A41-B4CE-189ED9DB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551-2360-47D0-8925-11E329D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4E6-F7F4-4213-AF84-095D679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5E5A-6B18-4AF6-992D-1322E7AF7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304920"/>
            <a:ext cx="3713760" cy="2741400"/>
            <a:chOff x="304920" y="304920"/>
            <a:chExt cx="3713760" cy="2741400"/>
          </a:xfrm>
        </p:grpSpPr>
        <p:pic>
          <p:nvPicPr>
            <p:cNvPr id="43" name="allardS" descr="allards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304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490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4876920" y="304920"/>
            <a:ext cx="3713760" cy="2741400"/>
            <a:chOff x="4876920" y="304920"/>
            <a:chExt cx="3713760" cy="2741400"/>
          </a:xfrm>
        </p:grpSpPr>
        <p:pic>
          <p:nvPicPr>
            <p:cNvPr id="46" name="amalia_newest" descr="amalianewest"/>
            <p:cNvPicPr/>
            <p:nvPr/>
          </p:nvPicPr>
          <p:blipFill>
            <a:blip r:embed="rId2"/>
            <a:stretch/>
          </p:blipFill>
          <p:spPr>
            <a:xfrm>
              <a:off x="487692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06256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04920" y="3659040"/>
            <a:ext cx="3655800" cy="2741760"/>
            <a:chOff x="304920" y="3659040"/>
            <a:chExt cx="3655800" cy="2741760"/>
          </a:xfrm>
        </p:grpSpPr>
        <p:pic>
          <p:nvPicPr>
            <p:cNvPr id="50" name="andrew" descr="andrew"/>
            <p:cNvPicPr/>
            <p:nvPr/>
          </p:nvPicPr>
          <p:blipFill>
            <a:blip r:embed="rId3"/>
            <a:stretch/>
          </p:blipFill>
          <p:spPr>
            <a:xfrm>
              <a:off x="304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89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76920" y="3659040"/>
            <a:ext cx="3655800" cy="2741760"/>
            <a:chOff x="4876920" y="3659040"/>
            <a:chExt cx="3655800" cy="2741760"/>
          </a:xfrm>
        </p:grpSpPr>
        <p:pic>
          <p:nvPicPr>
            <p:cNvPr id="53" name="bas_kort" descr="bas kort"/>
            <p:cNvPicPr/>
            <p:nvPr/>
          </p:nvPicPr>
          <p:blipFill>
            <a:blip r:embed="rId4">
              <a:lum contrast="12000"/>
            </a:blip>
            <a:stretch/>
          </p:blipFill>
          <p:spPr>
            <a:xfrm>
              <a:off x="4876920" y="365904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061120" y="3712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41720" y="297180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13360" y="308916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9840" y="62895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2680" y="63244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 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57200" y="304920"/>
            <a:ext cx="3713760" cy="2741400"/>
            <a:chOff x="457200" y="304920"/>
            <a:chExt cx="3713760" cy="2741400"/>
          </a:xfrm>
        </p:grpSpPr>
        <p:pic>
          <p:nvPicPr>
            <p:cNvPr id="60" name="belinda" descr="belinda"/>
            <p:cNvPicPr/>
            <p:nvPr/>
          </p:nvPicPr>
          <p:blipFill>
            <a:blip r:embed="rId1">
              <a:lum contrast="24000"/>
            </a:blip>
            <a:stretch/>
          </p:blipFill>
          <p:spPr>
            <a:xfrm>
              <a:off x="4572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6428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" name="dianNS" descr="dian ns"/>
          <p:cNvPicPr/>
          <p:nvPr/>
        </p:nvPicPr>
        <p:blipFill>
          <a:blip r:embed="rId2"/>
          <a:stretch/>
        </p:blipFill>
        <p:spPr>
          <a:xfrm>
            <a:off x="4724280" y="304920"/>
            <a:ext cx="3656160" cy="274140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724280" y="3581280"/>
            <a:ext cx="3656160" cy="2741760"/>
            <a:chOff x="4724280" y="3581280"/>
            <a:chExt cx="3656160" cy="2741760"/>
          </a:xfrm>
        </p:grpSpPr>
        <p:pic>
          <p:nvPicPr>
            <p:cNvPr id="64" name="geiske" descr="geiske"/>
            <p:cNvPicPr/>
            <p:nvPr/>
          </p:nvPicPr>
          <p:blipFill>
            <a:blip r:embed="rId3">
              <a:lum contrast="36000"/>
            </a:blip>
            <a:stretch/>
          </p:blipFill>
          <p:spPr>
            <a:xfrm>
              <a:off x="472428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08840" y="3634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746280" y="30132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48320" y="308916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57200" y="3581280"/>
            <a:ext cx="3713760" cy="2741760"/>
            <a:chOff x="457200" y="3581280"/>
            <a:chExt cx="3713760" cy="2741760"/>
          </a:xfrm>
        </p:grpSpPr>
        <p:pic>
          <p:nvPicPr>
            <p:cNvPr id="69" name="ewieS" descr="ewie"/>
            <p:cNvPicPr/>
            <p:nvPr/>
          </p:nvPicPr>
          <p:blipFill>
            <a:blip r:embed="rId4"/>
            <a:stretch/>
          </p:blipFill>
          <p:spPr>
            <a:xfrm>
              <a:off x="457200" y="358128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642840" y="363492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99640" y="6289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w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19000" y="6289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i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685800" y="304920"/>
            <a:ext cx="3656160" cy="2741400"/>
            <a:chOff x="685800" y="304920"/>
            <a:chExt cx="3656160" cy="2741400"/>
          </a:xfrm>
        </p:grpSpPr>
        <p:pic>
          <p:nvPicPr>
            <p:cNvPr id="74" name="henriette" descr="henriette"/>
            <p:cNvPicPr/>
            <p:nvPr/>
          </p:nvPicPr>
          <p:blipFill>
            <a:blip r:embed="rId1"/>
            <a:stretch/>
          </p:blipFill>
          <p:spPr>
            <a:xfrm>
              <a:off x="6858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870360" y="35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00600" y="304920"/>
            <a:ext cx="3713760" cy="2741400"/>
            <a:chOff x="4800600" y="304920"/>
            <a:chExt cx="3713760" cy="2741400"/>
          </a:xfrm>
        </p:grpSpPr>
        <p:pic>
          <p:nvPicPr>
            <p:cNvPr id="77" name="hilde" descr="hilde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3656160" cy="27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7986240" y="35856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62120" y="3657600"/>
            <a:ext cx="3713760" cy="2741760"/>
            <a:chOff x="762120" y="3657600"/>
            <a:chExt cx="3713760" cy="2741760"/>
          </a:xfrm>
        </p:grpSpPr>
        <p:pic>
          <p:nvPicPr>
            <p:cNvPr id="80" name="last_one" descr="last one"/>
            <p:cNvPicPr/>
            <p:nvPr/>
          </p:nvPicPr>
          <p:blipFill>
            <a:blip r:embed="rId3"/>
            <a:stretch/>
          </p:blipFill>
          <p:spPr>
            <a:xfrm>
              <a:off x="762120" y="3657600"/>
              <a:ext cx="365580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947760" y="371160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876920" y="3657600"/>
            <a:ext cx="3713760" cy="2741760"/>
            <a:chOff x="4876920" y="3657600"/>
            <a:chExt cx="3713760" cy="2741760"/>
          </a:xfrm>
        </p:grpSpPr>
        <p:pic>
          <p:nvPicPr>
            <p:cNvPr id="83" name="maartenS2" descr="maarten s2"/>
            <p:cNvPicPr/>
            <p:nvPr/>
          </p:nvPicPr>
          <p:blipFill>
            <a:blip r:embed="rId4"/>
            <a:stretch/>
          </p:blipFill>
          <p:spPr>
            <a:xfrm>
              <a:off x="4876920" y="36576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062560" y="3711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050120" y="30891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4960" y="30132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03480" y="63658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38680" y="64008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914400" y="685800"/>
            <a:ext cx="3713760" cy="2741760"/>
            <a:chOff x="914400" y="685800"/>
            <a:chExt cx="3713760" cy="2741760"/>
          </a:xfrm>
        </p:grpSpPr>
        <p:pic>
          <p:nvPicPr>
            <p:cNvPr id="90" name="reinerS" descr="reinier s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91440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10004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432080" y="354636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ni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952880" y="685800"/>
            <a:ext cx="3713760" cy="2741760"/>
            <a:chOff x="4952880" y="685800"/>
            <a:chExt cx="3713760" cy="2741760"/>
          </a:xfrm>
        </p:grpSpPr>
        <p:pic>
          <p:nvPicPr>
            <p:cNvPr id="94" name="triton_newest" descr="triton newest"/>
            <p:cNvPicPr/>
            <p:nvPr/>
          </p:nvPicPr>
          <p:blipFill>
            <a:blip r:embed="rId2"/>
            <a:stretch/>
          </p:blipFill>
          <p:spPr>
            <a:xfrm>
              <a:off x="4952880" y="685800"/>
              <a:ext cx="3656160" cy="274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38520" y="7394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5470200" y="34704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ton new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58:51Z</dcterms:created>
  <dc:creator>Dionne</dc:creator>
  <dc:description/>
  <dc:language>en-US</dc:language>
  <cp:lastModifiedBy>Rinia</cp:lastModifiedBy>
  <dcterms:modified xsi:type="dcterms:W3CDTF">2003-06-16T14:10:41Z</dcterms:modified>
  <cp:revision>11</cp:revision>
  <dc:subject/>
  <dc:title>PowerPoint Presentation</dc:title>
</cp:coreProperties>
</file>